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AB35-9CE6-42B5-849A-C2B8B2A5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FB7-BF4A-4EF8-AF9C-FD4F3C7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1D7-CFCC-48C2-9564-B76B186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C90-559E-4FDE-AC49-3B49F834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E9A-559D-4CFF-8E02-409C743B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8ACF-CD4E-4B31-A579-DB745A75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CCA9-9016-47B7-8290-D78EE60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5462-231D-4763-BC06-F8EFB41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C8F-5C05-41E2-8C79-6F8CC4B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38E0-5B89-4314-B87B-5B9C6D35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9CAC-5BB8-4A27-A61B-ABF00D7A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CDA-7087-43FD-B13E-83F8F94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F78-8130-4835-A1CE-6949D54E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219-AB44-43FB-A5D8-B77C372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12D0-266A-4A75-AA99-851CB0EA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0684-EEAC-41B1-B269-C9BBD20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8ADF-6C1F-4D05-907E-8AF19532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297-643E-42D0-878D-D3C460C8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68E-7FBB-4CE5-9B57-1522E2D1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4F5-69FE-4182-9F14-62D1E738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8AB-03B3-4072-BEFB-B9CEA09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341-930B-4D16-B5BD-97502FE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463-8093-4EB2-B92B-911C0DC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A98-8963-49C1-9491-A78D1DB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B16-7CD7-46DA-8D7C-C27F5CF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4F68-3D44-45F4-AA66-A10E00D69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769A-9241-4E2A-A7AA-1B6C12B49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howstuffworks.com/solar-cell.htm/" TargetMode="External"/><Relationship Id="rId4" Type="http://schemas.openxmlformats.org/officeDocument/2006/relationships/hyperlink" Target="http://www.howstuffworks.com/solar-cell.htm/" TargetMode="External"/><Relationship Id="rId5" Type="http://schemas.openxmlformats.org/officeDocument/2006/relationships/hyperlink" Target="http://www.howstuffworks.com/solar-cell.htm/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lobal-merchants.com/home/solars.htm" TargetMode="Externa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hyperlink" Target="http://www1.eere.energy.gov/windandhydro/index.html" TargetMode="External"/><Relationship Id="rId11" Type="http://schemas.openxmlformats.org/officeDocument/2006/relationships/image" Target="../media/image2.jpeg"/><Relationship Id="rId12" Type="http://schemas.openxmlformats.org/officeDocument/2006/relationships/hyperlink" Target="http://people.howstuffworks.com/hydropower-plant.htm" TargetMode="External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Alternative Energy 101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ki Ba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e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e L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Kaya 2: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28680"/>
            <a:ext cx="69343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 Hydroelectric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can store water directly from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recreational activities such as fishing, boating, and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esign= inexpensive repairs and low maintenanc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can be shut down instantly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brea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Hydroelectric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s natural seasonal changes in the river, ecosystems can be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t that usually flows down to the beaches and estuaries is blocked by the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decay caused by downstream of major dams produces green hous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a drought, it becomes useless or produces les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ind Energy</a:t>
            </a:r>
            <a:br>
              <a:rPr sz="4400"/>
            </a:b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Myth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Wind energy propels the blades of wind turbines = energy (by means of electrical gener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are noisy: Not! Because noise is = kitchen refrigerator/ moderately quiet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are ugly: Not! Beauty is in the eyes of the beholder and careful designing = less visual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harm wildlife: Not! Because wind energy development’s impact on birds is extremely low compared with other human relat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hydropower dams, except using wind kinetic energy to produce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moves turbine blades, turning a  shaft in the hub that is connected to a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 changes energy into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842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</a:t>
            </a:r>
            <a:r>
              <a:rPr b="0" lang="en-US" sz="4400" spc="-1" strike="noStrike">
                <a:solidFill>
                  <a:srgbClr val="000c44"/>
                </a:solidFill>
                <a:latin typeface="ヒラギノ角ゴ Pro W3"/>
              </a:rPr>
              <a:t> 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ind Energy</a:t>
            </a:r>
            <a:br>
              <a:rPr sz="4400"/>
            </a:b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no pollution that effects the environment (no chemical process take 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source= never ru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and grazing can still take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built off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Wind Ener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nd is needed for continuous power generation (wind speed decreases= turbine lingers and less energy is gene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wind farms can have a negative effect on sce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oday 1.6 million homes are served by win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2020 =25 million homes served by wi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914400"/>
          <a:ext cx="1005840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1005840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OUR PURPOSE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ghtenmen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IN CONCLUSION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energy is flawed…but has a lot of P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est for perso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 an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Community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v.unsw.edu.au/images/future-students/solar-cell_p-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4"/>
              </a:rPr>
              <a:t>howstuffworks</a:t>
            </a: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5"/>
              </a:rPr>
              <a:t>.com/solar-cell.ht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7"/>
              </a:rPr>
              <a:t>http://www.global-merchants.com/home/sola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howstuffworks.com/solar-cell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electric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Arial"/>
                <a:hlinkClick r:id="rId10"/>
              </a:rPr>
              <a:t>http://www1.eere.energy.gov/windandhydro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Arial"/>
                <a:hlinkClick r:id="rId12"/>
              </a:rPr>
              <a:t>http://people.howstuffworks.com/hydropower-pla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science.howstuffworks.com/wind-pow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ia.doe.gov/kids/energyfacts/sources/renewable/win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pacificorp.com/File/File472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warthmore.edu/NatSci/sciproject/windpowertal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rake.marin.k12.ca.us/stuwork/rockwater/Upload%20this%20doc--dams%20and%20hydropower%20report/pros%20and%20c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gj.lib.uidaho.edu/egi09/youngqu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olar Power Myths</a:t>
            </a:r>
            <a:br>
              <a:rPr sz="4400"/>
            </a:b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olar energy unlimited?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 will exist for a long time, but at any given place on the Earth’s surface, the amount of sunlight received is limi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night or when it is overcast, there may be no daylight at al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ount of electricity that can be generated by solar cells is not great compared to the dem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ar energy in quantity, requires huge install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we store significant amounts of electricity when the sun is not available to produce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1" lang="en-US" sz="32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tovoltaic cells made out of semi-conductors (often silic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nlight strikes cell then semi conductor material absorbs light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ing the silicon electrons to flow fre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V cells also have at least one electric field that steers the loose electrons into the same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l surfaces located on the top and bottom of PV cells convert this current into usabl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8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 Solar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newable resource as long as there is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ter or 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heating and l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pools, spas, and 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Solar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un: NO ENERGY (nighttime and cloudy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ower stations are 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realistically be used to power transport vehicles by converting light energy into another form of stored energy (bat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ydroelectric Power</a:t>
            </a:r>
            <a:br>
              <a:rPr sz="4400"/>
            </a:b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Myths and Defini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s from the potential energy of dammed water driving a water turbine and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, no polluting, environmentally friendly: NOT! Because floods the land and displaces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a renewable energy source if reservoirs are involved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rom reservoir is considered to be store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 water flows into dam as kinetic energy, turning turbine which is connected to a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tor takes energy and produces alternating currents (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ormer collects the AC and converts it to stronger voltage 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ater comes out back into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0:55:28Z</dcterms:created>
  <dc:creator>Punahou School</dc:creator>
  <dc:description/>
  <dc:language>en-US</dc:language>
  <cp:lastModifiedBy>  </cp:lastModifiedBy>
  <cp:lastPrinted>2007-03-30T01:00:52Z</cp:lastPrinted>
  <dcterms:modified xsi:type="dcterms:W3CDTF">2007-04-03T07:25:26Z</dcterms:modified>
  <cp:revision>3</cp:revision>
  <dc:subject/>
  <dc:title>Alternative Energy 101</dc:title>
</cp:coreProperties>
</file>